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8FC0-3303-4EEE-A2BE-B6FC8D79C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24F6-A216-4DC9-AACC-8F5D43C19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D6CD-6885-4C84-BFC2-8958FFDB1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2BB2-51BD-44E9-9FC1-821038484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0DAB-D0EF-4E69-BE59-8BD274DAEE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F600-F3CD-4479-A064-402C55FAB4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EAAC-BF2D-4689-A04C-9DBA3C3BC3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6A65-778A-4D87-AC10-8EDC22EF10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DBED-5F25-4815-A2A1-CC8239E26E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AB1B-278D-4B8D-B651-ED31403A9B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1E1C-D857-4DBD-8A5B-29C4C58F4B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2ADB-B4EA-470E-8864-1CD485A69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EB20-D0EA-4259-B51F-F84CA289CA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6BAD-010F-494E-8453-AEC5CA08BD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9D36-A1CC-437E-8E66-72D2282541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10B2-FA94-4D32-A535-368D4848EA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E1EA-11BB-4D7B-9DB4-F638578099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75639-ACC0-4D30-A01F-0AD786C7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AA7AF-978E-4AD4-9714-B05783BC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B1616-CDC8-475D-A13C-0895E249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D528D-E68F-4CFE-9487-9119961C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8819C-F4C6-4F6E-B56B-F5E4B9F5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03B4-5D14-4882-A56A-45941EFD3C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FA4BC-AECA-4D7E-B923-12D22757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6B65B-DBEB-4582-9450-0620B5CE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19DE6-7590-4398-8C47-35E43C2C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CB9FE-0F90-4FEB-B85C-2D2A9963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B8581-91A8-4B49-9161-D1AF8A71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404EE-2FFC-47C7-A96B-3F8CC511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5C3D5-4DFA-4ED4-8F98-1C68BE77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7F9A-F780-4E71-A85C-201EDD803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FAE6-BDCB-4334-8144-9EB038723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4485-A42C-46FA-8B26-B15EF6755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6C72-0650-4A27-933B-FC4887931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F363-74D7-4CD6-A609-B63BBB920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E587-88D1-4BF9-9F7C-9B742B1C4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1A6C-8C61-46BB-9D03-26A1D75047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" name="Picture 6" descr=""/>
          <p:cNvPicPr/>
          <p:nvPr/>
        </p:nvPicPr>
        <p:blipFill>
          <a:blip r:embed="rId2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29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EI_Logo.tif"/>
          <p:cNvPicPr/>
          <p:nvPr/>
        </p:nvPicPr>
        <p:blipFill>
          <a:blip r:embed="rId2"/>
          <a:stretch/>
        </p:blipFill>
        <p:spPr>
          <a:xfrm>
            <a:off x="3753000" y="241200"/>
            <a:ext cx="3333600" cy="54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"/>
          <p:cNvPicPr/>
          <p:nvPr/>
        </p:nvPicPr>
        <p:blipFill>
          <a:blip r:embed="rId3"/>
          <a:stretch/>
        </p:blipFill>
        <p:spPr>
          <a:xfrm>
            <a:off x="2533680" y="157320"/>
            <a:ext cx="1033560" cy="71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7B85-6346-458C-B342-506824ACBE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190E-6F07-4C5F-9D5D-865F321409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downs@ciesin.columbia.edu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1409400"/>
            <a:ext cx="80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ternative Approaches to Collaborative Software Deployment Leverag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en Source Softwa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2552760"/>
            <a:ext cx="754380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bert R. Dow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  <a:ea typeface="Arial"/>
                <a:hlinkClick r:id="rId1"/>
              </a:rPr>
              <a:t>rdowns@ciesin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SA Socioeconomic Data and Applications Center (SEDA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er for International Earth Science Information Network (CIESI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arth Institute, Columbia Univers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ter 2012 ESIP Federation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shington,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uary 4,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1188" t="0" r="0" b="0"/>
          <a:stretch/>
        </p:blipFill>
        <p:spPr>
          <a:xfrm>
            <a:off x="2867040" y="0"/>
            <a:ext cx="31669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6924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S Software Deployment Alternatives *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Source Software (O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-Supported 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Software (with or without OSS compon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ations of these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C976-1176-45EE-95E2-54C0BD31D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612000" y="489096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Derived from: Yetman &amp; Downs. 2011. Models for Deploying Open Sourc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 Software to Support Earth Science Data Processing and Distribu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 Fall AGU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SS Deploy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nd share software as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ense as open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ccess within OS community (Apache, SourceForge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ly contribute to OSS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 OS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, enhance, document, etc., to improv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B17E-4153-43DB-B3EF-C4BDD725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ploying Vendor-Supported O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 OSS product provided by ven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 provides services such as installation, hosting, enhancement, customization, documentation, 24x7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 contributes enhancements to 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ments meeting customer needs are also applicable to the OSS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9951-AEE0-45DB-896C-91584BB6E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ploying Commercial Softwa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or may not contain OS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common needs for enhancements among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e on customizations within customer community (can become O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DDEB-E9E5-4140-8AB6-E8ED11097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95440" y="248760"/>
            <a:ext cx="62150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ploying combinations of OSS and Commercial Products and Servi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omposed of commercial and 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ng with OSS and customer comm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CDD3-2407-49B9-A650-81B8183A4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249120"/>
            <a:ext cx="7372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sessing Collaborative OSS Deployment Options*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* Derived from Yetman &amp; Downs (2011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C5C9-ADA7-4FF2-A818-1AE5FD42A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95360" y="1266840"/>
          <a:ext cx="8420040" cy="5776920"/>
        </p:xfrm>
        <a:graphic>
          <a:graphicData uri="http://schemas.openxmlformats.org/drawingml/2006/table">
            <a:tbl>
              <a:tblPr/>
              <a:tblGrid>
                <a:gridCol w="2104920"/>
                <a:gridCol w="2104920"/>
                <a:gridCol w="1962360"/>
                <a:gridCol w="2247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ft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labo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ne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 Source Software (O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staff and OS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 community stag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ment &amp; support from OS community and interna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dor-Supported 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dor and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in vendor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ment &amp; support from vendor &amp; OS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Soft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dor &amp; customer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 discontin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ment &amp; support from vendor &amp; customer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binations of Commercial &amp; 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 and customer community, vendor, and interna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 community stagnation, change in vendor services or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ment &amp; support from diversified comm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9:01:14Z</dcterms:created>
  <dc:creator>Robert R. Downs</dc:creator>
  <dc:description/>
  <dc:language>en-US</dc:language>
  <cp:lastModifiedBy>Erin Robinson</cp:lastModifiedBy>
  <cp:lastPrinted>2002-01-07T14:25:07Z</cp:lastPrinted>
  <dcterms:modified xsi:type="dcterms:W3CDTF">2012-01-11T22:34:27Z</dcterms:modified>
  <cp:revision>2170</cp:revision>
  <dc:subject/>
  <dc:title>SEDAC-PrepforTestAuditPTAB</dc:title>
</cp:coreProperties>
</file>